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FCD4-B914-42DF-A8B9-CE902467B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EF0F-1FB9-4198-B64E-2C5FDB9E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3695-C8CA-4FE5-BA1A-9577BA41E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443B-7714-4A14-80BD-B481ED936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C5B0-AEB1-44F2-8451-F961BB32F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1A50-6D3B-412D-B714-E2741500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80B5-D4E2-4D1A-9331-89194C9A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2815-B779-4B9D-995E-20E36B6D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FBAD-1999-4801-B901-529ABE7A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1B1A-E085-435A-8A15-83C33B65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0A4E-4702-40C3-8A52-7DCEAADD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CCA7-8815-4831-8EBC-3FB5E21B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4DAE-6921-408D-8492-F0578F1F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B0F4-9A35-4F9C-A1DE-996D41D8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FF95-FCA2-4E60-831C-4C3F5FB0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36CB-A476-4260-8EBB-E31C4E515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15C0-8D85-4DB3-8B85-4979642E9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E965B-506A-40BA-8365-06D8BADE1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35C38-4D76-4212-8C88-547007E4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A9DA6-FE5D-400B-AB2A-CCE81134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AE527-8521-4A00-8694-4AB1D2A8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213CA-0EBB-405B-9FF5-3D8EC106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4EE9-5BEA-4EE4-9986-F10B19D4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057EF-1693-4C27-8725-46308331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A44E8-D5E5-4C0C-A7B5-3BF7FD1C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C34C0-1B64-4DB3-9E4D-829F620F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C64BF-8454-4FCB-9CAE-3F3C482B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F8FE2-7F64-4E2A-919A-B40E7259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F9FC0-EFFA-4261-9569-0BA995CFD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ACEEB-ED4B-4336-90AF-53BFE1E46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E4B0-A9F8-4DB4-A7D3-669FB6D2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6818-979D-45C8-9BB3-13FED61D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333C-9072-41E8-ABC1-E6454051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9034-E7AE-4B6F-AF0C-DEB4AE40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D872-5312-4832-818F-BF5F05A9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B5C3-969F-4514-8329-6596CCCE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239B-523B-46CB-ABE7-899EE1371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7755-0430-4E5D-9C51-F67FE18825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C57F-8DA3-4BE6-A875-4A9C7B2C55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1854000"/>
            <a:ext cx="9144000" cy="11430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Organism Survival cont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429000"/>
            <a:ext cx="9144000" cy="11430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rowth, maintenance &amp; reproduction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125280"/>
            <a:ext cx="896472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What is the fate of a gamete?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282680"/>
            <a:ext cx="792144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e and fema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metes un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haploid nuclei f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roducing a diploi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us (recal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ologous chromosome pai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ygo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ew cel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969696"/>
                </a:solidFill>
                <a:latin typeface="Arial"/>
              </a:rPr>
              <a:t>Fert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rtiliz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restores chromosome 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969696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 23 + </a:t>
            </a:r>
            <a:r>
              <a:rPr b="0" i="1" lang="en-US" sz="2400" spc="-1" strike="noStrike">
                <a:solidFill>
                  <a:srgbClr val="969696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 23 = </a:t>
            </a:r>
            <a:r>
              <a:rPr b="0" i="1" lang="en-US" sz="2400" spc="-1" strike="noStrike">
                <a:solidFill>
                  <a:srgbClr val="969696"/>
                </a:solidFill>
                <a:latin typeface="Arial"/>
              </a:rPr>
              <a:t>2n</a:t>
            </a: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 4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introduc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rther genetic var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gametes combine random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19280" cy="22766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43040" y="5699160"/>
            <a:ext cx="7272360" cy="719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ios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 differentiati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f game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ertiliz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defin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9280" y="124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Sexual Reproduc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8066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spring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tically vari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they inheri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combinations of alleles (versions of the sa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c0c0c0"/>
                </a:solidFill>
                <a:latin typeface="Arial"/>
              </a:rPr>
              <a:t>(</a:t>
            </a:r>
            <a:r>
              <a:rPr b="0" i="1" lang="en-ZA" sz="2400" spc="-1" strike="noStrike">
                <a:solidFill>
                  <a:srgbClr val="c0c0c0"/>
                </a:solidFill>
                <a:latin typeface="Arial"/>
              </a:rPr>
              <a:t>which drives the process of </a:t>
            </a:r>
            <a:r>
              <a:rPr b="1" i="1" lang="en-ZA" sz="2400" spc="-1" strike="noStrike">
                <a:solidFill>
                  <a:srgbClr val="c0c0c0"/>
                </a:solidFill>
                <a:latin typeface="Arial"/>
              </a:rPr>
              <a:t>evolution</a:t>
            </a:r>
            <a:r>
              <a:rPr b="0" lang="en-ZA" sz="2400" spc="-1" strike="noStrike">
                <a:solidFill>
                  <a:srgbClr val="c0c0c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ing O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omb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f non-sister chromatids in Prophase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dom Align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dependent Assort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f chromosomes in Metaphase I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aphase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bination of gametes 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ates the life cycles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cellular Eukaryo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192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914400" y="0"/>
            <a:ext cx="82296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xual life cycle comple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02040" y="1741320"/>
            <a:ext cx="1824120" cy="182880"/>
          </a:xfrm>
          <a:custGeom>
            <a:avLst/>
            <a:gdLst/>
            <a:ahLst/>
            <a:rect l="l" t="t" r="r" b="b"/>
            <a:pathLst>
              <a:path w="960" h="304">
                <a:moveTo>
                  <a:pt x="960" y="304"/>
                </a:moveTo>
                <a:cubicBezTo>
                  <a:pt x="924" y="232"/>
                  <a:pt x="888" y="160"/>
                  <a:pt x="816" y="112"/>
                </a:cubicBezTo>
                <a:cubicBezTo>
                  <a:pt x="744" y="64"/>
                  <a:pt x="664" y="32"/>
                  <a:pt x="528" y="16"/>
                </a:cubicBezTo>
                <a:cubicBezTo>
                  <a:pt x="392" y="0"/>
                  <a:pt x="88" y="16"/>
                  <a:pt x="0" y="16"/>
                </a:cubicBezTo>
              </a:path>
            </a:pathLst>
          </a:custGeom>
          <a:noFill/>
          <a:ln w="5724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81480" y="1719360"/>
            <a:ext cx="990720" cy="110880"/>
          </a:xfrm>
          <a:custGeom>
            <a:avLst/>
            <a:gdLst/>
            <a:ahLst/>
            <a:rect l="l" t="t" r="r" b="b"/>
            <a:pathLst>
              <a:path w="713" h="97">
                <a:moveTo>
                  <a:pt x="713" y="97"/>
                </a:moveTo>
                <a:cubicBezTo>
                  <a:pt x="684" y="85"/>
                  <a:pt x="621" y="39"/>
                  <a:pt x="540" y="24"/>
                </a:cubicBezTo>
                <a:cubicBezTo>
                  <a:pt x="459" y="9"/>
                  <a:pt x="319" y="0"/>
                  <a:pt x="229" y="5"/>
                </a:cubicBezTo>
                <a:cubicBezTo>
                  <a:pt x="139" y="10"/>
                  <a:pt x="48" y="42"/>
                  <a:pt x="0" y="51"/>
                </a:cubicBezTo>
              </a:path>
            </a:pathLst>
          </a:cu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700360" y="3789360"/>
            <a:ext cx="573120" cy="1030320"/>
          </a:xfrm>
          <a:custGeom>
            <a:avLst/>
            <a:gdLst/>
            <a:ahLst/>
            <a:rect l="l" t="t" r="r" b="b"/>
            <a:pathLst>
              <a:path w="720" h="1248">
                <a:moveTo>
                  <a:pt x="0" y="1248"/>
                </a:moveTo>
                <a:cubicBezTo>
                  <a:pt x="12" y="1116"/>
                  <a:pt x="24" y="984"/>
                  <a:pt x="48" y="864"/>
                </a:cubicBezTo>
                <a:cubicBezTo>
                  <a:pt x="72" y="744"/>
                  <a:pt x="96" y="632"/>
                  <a:pt x="144" y="528"/>
                </a:cubicBezTo>
                <a:cubicBezTo>
                  <a:pt x="192" y="424"/>
                  <a:pt x="264" y="320"/>
                  <a:pt x="336" y="240"/>
                </a:cubicBezTo>
                <a:cubicBezTo>
                  <a:pt x="408" y="160"/>
                  <a:pt x="512" y="88"/>
                  <a:pt x="576" y="48"/>
                </a:cubicBezTo>
                <a:cubicBezTo>
                  <a:pt x="640" y="8"/>
                  <a:pt x="680" y="4"/>
                  <a:pt x="720" y="0"/>
                </a:cubicBezTo>
              </a:path>
            </a:pathLst>
          </a:custGeom>
          <a:noFill/>
          <a:ln w="57240">
            <a:solidFill>
              <a:srgbClr val="6666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1716120" y="4010040"/>
            <a:ext cx="1557360" cy="1247760"/>
          </a:xfrm>
          <a:custGeom>
            <a:avLst/>
            <a:gdLst/>
            <a:ahLst/>
            <a:rect l="l" t="t" r="r" b="b"/>
            <a:pathLst>
              <a:path w="720" h="1248">
                <a:moveTo>
                  <a:pt x="0" y="1248"/>
                </a:moveTo>
                <a:cubicBezTo>
                  <a:pt x="12" y="1116"/>
                  <a:pt x="24" y="984"/>
                  <a:pt x="48" y="864"/>
                </a:cubicBezTo>
                <a:cubicBezTo>
                  <a:pt x="72" y="744"/>
                  <a:pt x="96" y="632"/>
                  <a:pt x="144" y="528"/>
                </a:cubicBezTo>
                <a:cubicBezTo>
                  <a:pt x="192" y="424"/>
                  <a:pt x="264" y="320"/>
                  <a:pt x="336" y="240"/>
                </a:cubicBezTo>
                <a:cubicBezTo>
                  <a:pt x="408" y="160"/>
                  <a:pt x="512" y="88"/>
                  <a:pt x="576" y="48"/>
                </a:cubicBezTo>
                <a:cubicBezTo>
                  <a:pt x="640" y="8"/>
                  <a:pt x="680" y="4"/>
                  <a:pt x="720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0200" y="3192480"/>
            <a:ext cx="868320" cy="712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07280" y="1596960"/>
            <a:ext cx="909360" cy="7113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 rot="5400000">
            <a:off x="2203920" y="1780200"/>
            <a:ext cx="1208160" cy="1368360"/>
          </a:xfrm>
          <a:custGeom>
            <a:avLst/>
            <a:gdLst/>
            <a:ahLst/>
            <a:rect l="l" t="t" r="r" b="b"/>
            <a:pathLst>
              <a:path w="720" h="1248">
                <a:moveTo>
                  <a:pt x="0" y="1248"/>
                </a:moveTo>
                <a:cubicBezTo>
                  <a:pt x="12" y="1116"/>
                  <a:pt x="24" y="984"/>
                  <a:pt x="48" y="864"/>
                </a:cubicBezTo>
                <a:cubicBezTo>
                  <a:pt x="72" y="744"/>
                  <a:pt x="96" y="632"/>
                  <a:pt x="144" y="528"/>
                </a:cubicBezTo>
                <a:cubicBezTo>
                  <a:pt x="192" y="424"/>
                  <a:pt x="264" y="320"/>
                  <a:pt x="336" y="240"/>
                </a:cubicBezTo>
                <a:cubicBezTo>
                  <a:pt x="408" y="160"/>
                  <a:pt x="512" y="88"/>
                  <a:pt x="576" y="48"/>
                </a:cubicBezTo>
                <a:cubicBezTo>
                  <a:pt x="640" y="8"/>
                  <a:pt x="680" y="4"/>
                  <a:pt x="720" y="0"/>
                </a:cubicBezTo>
              </a:path>
            </a:pathLst>
          </a:custGeom>
          <a:noFill/>
          <a:ln w="572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171960" y="1606680"/>
            <a:ext cx="493560" cy="409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94000" y="5097600"/>
            <a:ext cx="493920" cy="4111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94000" y="4621320"/>
            <a:ext cx="493920" cy="411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48040" y="5289480"/>
            <a:ext cx="1620720" cy="96840"/>
          </a:xfrm>
          <a:custGeom>
            <a:avLst/>
            <a:gdLst/>
            <a:ahLst/>
            <a:rect l="l" t="t" r="r" b="b"/>
            <a:pathLst>
              <a:path w="457" h="64">
                <a:moveTo>
                  <a:pt x="0" y="64"/>
                </a:moveTo>
                <a:lnTo>
                  <a:pt x="457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78280" y="5415120"/>
            <a:ext cx="1590480" cy="171360"/>
          </a:xfrm>
          <a:custGeom>
            <a:avLst/>
            <a:gdLst/>
            <a:ahLst/>
            <a:rect l="l" t="t" r="r" b="b"/>
            <a:pathLst>
              <a:path w="480" h="112">
                <a:moveTo>
                  <a:pt x="0" y="0"/>
                </a:moveTo>
                <a:lnTo>
                  <a:pt x="480" y="112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38760" y="5415120"/>
            <a:ext cx="1530000" cy="519120"/>
          </a:xfrm>
          <a:custGeom>
            <a:avLst/>
            <a:gdLst/>
            <a:ahLst/>
            <a:rect l="l" t="t" r="r" b="b"/>
            <a:pathLst>
              <a:path w="430" h="293">
                <a:moveTo>
                  <a:pt x="0" y="0"/>
                </a:moveTo>
                <a:lnTo>
                  <a:pt x="430" y="293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48040" y="5370480"/>
            <a:ext cx="1620720" cy="887400"/>
          </a:xfrm>
          <a:custGeom>
            <a:avLst/>
            <a:gdLst/>
            <a:ahLst/>
            <a:rect l="l" t="t" r="r" b="b"/>
            <a:pathLst>
              <a:path w="430" h="530">
                <a:moveTo>
                  <a:pt x="0" y="0"/>
                </a:moveTo>
                <a:lnTo>
                  <a:pt x="430" y="530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48040" y="4726080"/>
            <a:ext cx="1704960" cy="160200"/>
          </a:xfrm>
          <a:custGeom>
            <a:avLst/>
            <a:gdLst/>
            <a:ahLst/>
            <a:rect l="l" t="t" r="r" b="b"/>
            <a:pathLst>
              <a:path w="448" h="100">
                <a:moveTo>
                  <a:pt x="0" y="0"/>
                </a:moveTo>
                <a:lnTo>
                  <a:pt x="448" y="100"/>
                </a:lnTo>
              </a:path>
            </a:pathLst>
          </a:custGeom>
          <a:noFill/>
          <a:ln w="57240">
            <a:solidFill>
              <a:srgbClr val="66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48040" y="4564080"/>
            <a:ext cx="1704960" cy="162000"/>
          </a:xfrm>
          <a:custGeom>
            <a:avLst/>
            <a:gdLst/>
            <a:ahLst/>
            <a:rect l="l" t="t" r="r" b="b"/>
            <a:pathLst>
              <a:path w="420" h="119">
                <a:moveTo>
                  <a:pt x="0" y="119"/>
                </a:moveTo>
                <a:lnTo>
                  <a:pt x="420" y="0"/>
                </a:lnTo>
              </a:path>
            </a:pathLst>
          </a:custGeom>
          <a:noFill/>
          <a:ln w="57240">
            <a:solidFill>
              <a:srgbClr val="66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48040" y="4278240"/>
            <a:ext cx="1704960" cy="447840"/>
          </a:xfrm>
          <a:custGeom>
            <a:avLst/>
            <a:gdLst/>
            <a:ahLst/>
            <a:rect l="l" t="t" r="r" b="b"/>
            <a:pathLst>
              <a:path w="485" h="311">
                <a:moveTo>
                  <a:pt x="0" y="311"/>
                </a:moveTo>
                <a:lnTo>
                  <a:pt x="485" y="0"/>
                </a:lnTo>
              </a:path>
            </a:pathLst>
          </a:custGeom>
          <a:noFill/>
          <a:ln w="57240">
            <a:solidFill>
              <a:srgbClr val="66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44800" y="3906720"/>
            <a:ext cx="1689120" cy="827280"/>
          </a:xfrm>
          <a:custGeom>
            <a:avLst/>
            <a:gdLst/>
            <a:ahLst/>
            <a:rect l="l" t="t" r="r" b="b"/>
            <a:pathLst>
              <a:path w="471" h="514">
                <a:moveTo>
                  <a:pt x="0" y="514"/>
                </a:moveTo>
                <a:lnTo>
                  <a:pt x="471" y="0"/>
                </a:lnTo>
              </a:path>
            </a:pathLst>
          </a:custGeom>
          <a:noFill/>
          <a:ln w="57240">
            <a:solidFill>
              <a:srgbClr val="66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51680" y="3859200"/>
            <a:ext cx="129960" cy="1184400"/>
          </a:xfrm>
          <a:custGeom>
            <a:avLst/>
            <a:gdLst>
              <a:gd name="textAreaLeft" fmla="*/ 0 w 129960"/>
              <a:gd name="textAreaRight" fmla="*/ 46800 w 129960"/>
              <a:gd name="textAreaTop" fmla="*/ 30600 h 1184400"/>
              <a:gd name="textAreaBottom" fmla="*/ 1153800 h 118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2485"/>
                </a:lnTo>
                <a:cubicBezTo>
                  <a:pt x="10800" y="3385"/>
                  <a:pt x="16200" y="4285"/>
                  <a:pt x="21600" y="4285"/>
                </a:cubicBezTo>
                <a:cubicBezTo>
                  <a:pt x="16200" y="4285"/>
                  <a:pt x="10800" y="5185"/>
                  <a:pt x="10800" y="608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51680" y="5183280"/>
            <a:ext cx="101520" cy="1270080"/>
          </a:xfrm>
          <a:custGeom>
            <a:avLst/>
            <a:gdLst>
              <a:gd name="textAreaLeft" fmla="*/ 0 w 101520"/>
              <a:gd name="textAreaRight" fmla="*/ 36720 w 101520"/>
              <a:gd name="textAreaTop" fmla="*/ 33120 h 1270080"/>
              <a:gd name="textAreaBottom" fmla="*/ 1236960 h 127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6192"/>
                </a:lnTo>
                <a:cubicBezTo>
                  <a:pt x="10800" y="7092"/>
                  <a:pt x="16200" y="7992"/>
                  <a:pt x="21600" y="7992"/>
                </a:cubicBezTo>
                <a:cubicBezTo>
                  <a:pt x="16200" y="7992"/>
                  <a:pt x="10800" y="8892"/>
                  <a:pt x="10800" y="979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640480" y="3833640"/>
            <a:ext cx="392040" cy="30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640480" y="4149720"/>
            <a:ext cx="392040" cy="3081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640480" y="4468680"/>
            <a:ext cx="39204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640480" y="4805280"/>
            <a:ext cx="392040" cy="306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40480" y="5183280"/>
            <a:ext cx="392040" cy="3063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653080" y="5514840"/>
            <a:ext cx="393840" cy="3081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40480" y="5842080"/>
            <a:ext cx="392040" cy="3045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640480" y="6140520"/>
            <a:ext cx="392040" cy="3078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 rot="16200000">
            <a:off x="6360120" y="3689280"/>
            <a:ext cx="398520" cy="374400"/>
          </a:xfrm>
          <a:custGeom>
            <a:avLst/>
            <a:gdLst/>
            <a:ahLst/>
            <a:rect l="l" t="t" r="r" b="b"/>
            <a:pathLst>
              <a:path w="720" h="1248">
                <a:moveTo>
                  <a:pt x="0" y="1248"/>
                </a:moveTo>
                <a:cubicBezTo>
                  <a:pt x="12" y="1116"/>
                  <a:pt x="24" y="984"/>
                  <a:pt x="48" y="864"/>
                </a:cubicBezTo>
                <a:cubicBezTo>
                  <a:pt x="72" y="744"/>
                  <a:pt x="96" y="632"/>
                  <a:pt x="144" y="528"/>
                </a:cubicBezTo>
                <a:cubicBezTo>
                  <a:pt x="192" y="424"/>
                  <a:pt x="264" y="320"/>
                  <a:pt x="336" y="240"/>
                </a:cubicBezTo>
                <a:cubicBezTo>
                  <a:pt x="408" y="160"/>
                  <a:pt x="512" y="88"/>
                  <a:pt x="576" y="48"/>
                </a:cubicBezTo>
                <a:cubicBezTo>
                  <a:pt x="640" y="8"/>
                  <a:pt x="680" y="4"/>
                  <a:pt x="720" y="0"/>
                </a:cubicBezTo>
              </a:path>
            </a:pathLst>
          </a:custGeom>
          <a:noFill/>
          <a:ln w="57240">
            <a:solidFill>
              <a:srgbClr val="66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 rot="15850800">
            <a:off x="6526440" y="4503600"/>
            <a:ext cx="922320" cy="1244520"/>
          </a:xfrm>
          <a:custGeom>
            <a:avLst/>
            <a:gdLst/>
            <a:ahLst/>
            <a:rect l="l" t="t" r="r" b="b"/>
            <a:pathLst>
              <a:path w="720" h="1248">
                <a:moveTo>
                  <a:pt x="0" y="1248"/>
                </a:moveTo>
                <a:cubicBezTo>
                  <a:pt x="12" y="1116"/>
                  <a:pt x="24" y="984"/>
                  <a:pt x="48" y="864"/>
                </a:cubicBezTo>
                <a:cubicBezTo>
                  <a:pt x="72" y="744"/>
                  <a:pt x="96" y="632"/>
                  <a:pt x="144" y="528"/>
                </a:cubicBezTo>
                <a:cubicBezTo>
                  <a:pt x="192" y="424"/>
                  <a:pt x="264" y="320"/>
                  <a:pt x="336" y="240"/>
                </a:cubicBezTo>
                <a:cubicBezTo>
                  <a:pt x="408" y="160"/>
                  <a:pt x="512" y="88"/>
                  <a:pt x="576" y="48"/>
                </a:cubicBezTo>
                <a:cubicBezTo>
                  <a:pt x="640" y="8"/>
                  <a:pt x="680" y="4"/>
                  <a:pt x="720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515360" y="4124160"/>
            <a:ext cx="392040" cy="306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3708000">
            <a:off x="5734440" y="1937520"/>
            <a:ext cx="371520" cy="325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578640" y="3236760"/>
            <a:ext cx="392040" cy="3081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 rot="11652000">
            <a:off x="7169040" y="2380320"/>
            <a:ext cx="858960" cy="1458720"/>
          </a:xfrm>
          <a:custGeom>
            <a:avLst/>
            <a:gdLst/>
            <a:ahLst/>
            <a:rect l="l" t="t" r="r" b="b"/>
            <a:pathLst>
              <a:path w="720" h="1248">
                <a:moveTo>
                  <a:pt x="0" y="1248"/>
                </a:moveTo>
                <a:cubicBezTo>
                  <a:pt x="12" y="1116"/>
                  <a:pt x="24" y="984"/>
                  <a:pt x="48" y="864"/>
                </a:cubicBezTo>
                <a:cubicBezTo>
                  <a:pt x="72" y="744"/>
                  <a:pt x="96" y="632"/>
                  <a:pt x="144" y="528"/>
                </a:cubicBezTo>
                <a:cubicBezTo>
                  <a:pt x="192" y="424"/>
                  <a:pt x="264" y="320"/>
                  <a:pt x="336" y="240"/>
                </a:cubicBezTo>
                <a:cubicBezTo>
                  <a:pt x="408" y="160"/>
                  <a:pt x="512" y="88"/>
                  <a:pt x="576" y="48"/>
                </a:cubicBezTo>
                <a:cubicBezTo>
                  <a:pt x="640" y="8"/>
                  <a:pt x="680" y="4"/>
                  <a:pt x="720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 rot="11317800">
            <a:off x="6200280" y="2291760"/>
            <a:ext cx="636840" cy="820440"/>
          </a:xfrm>
          <a:custGeom>
            <a:avLst/>
            <a:gdLst/>
            <a:ahLst/>
            <a:rect l="l" t="t" r="r" b="b"/>
            <a:pathLst>
              <a:path w="720" h="1248">
                <a:moveTo>
                  <a:pt x="0" y="1248"/>
                </a:moveTo>
                <a:cubicBezTo>
                  <a:pt x="12" y="1116"/>
                  <a:pt x="24" y="984"/>
                  <a:pt x="48" y="864"/>
                </a:cubicBezTo>
                <a:cubicBezTo>
                  <a:pt x="72" y="744"/>
                  <a:pt x="96" y="632"/>
                  <a:pt x="144" y="528"/>
                </a:cubicBezTo>
                <a:cubicBezTo>
                  <a:pt x="192" y="424"/>
                  <a:pt x="264" y="320"/>
                  <a:pt x="336" y="240"/>
                </a:cubicBezTo>
                <a:cubicBezTo>
                  <a:pt x="408" y="160"/>
                  <a:pt x="512" y="88"/>
                  <a:pt x="576" y="48"/>
                </a:cubicBezTo>
                <a:cubicBezTo>
                  <a:pt x="640" y="8"/>
                  <a:pt x="680" y="4"/>
                  <a:pt x="720" y="0"/>
                </a:cubicBezTo>
              </a:path>
            </a:pathLst>
          </a:custGeom>
          <a:noFill/>
          <a:ln w="57240">
            <a:solidFill>
              <a:srgbClr val="66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884920" y="2255760"/>
            <a:ext cx="376200" cy="61596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53" y="0"/>
                </a:moveTo>
                <a:cubicBezTo>
                  <a:pt x="0" y="79"/>
                  <a:pt x="61" y="66"/>
                  <a:pt x="125" y="72"/>
                </a:cubicBezTo>
                <a:cubicBezTo>
                  <a:pt x="141" y="120"/>
                  <a:pt x="135" y="77"/>
                  <a:pt x="101" y="104"/>
                </a:cubicBezTo>
                <a:cubicBezTo>
                  <a:pt x="94" y="109"/>
                  <a:pt x="96" y="120"/>
                  <a:pt x="93" y="128"/>
                </a:cubicBezTo>
                <a:cubicBezTo>
                  <a:pt x="109" y="175"/>
                  <a:pt x="89" y="132"/>
                  <a:pt x="125" y="168"/>
                </a:cubicBezTo>
                <a:cubicBezTo>
                  <a:pt x="132" y="175"/>
                  <a:pt x="137" y="183"/>
                  <a:pt x="141" y="192"/>
                </a:cubicBezTo>
                <a:cubicBezTo>
                  <a:pt x="145" y="200"/>
                  <a:pt x="149" y="216"/>
                  <a:pt x="149" y="216"/>
                </a:cubicBezTo>
              </a:path>
            </a:pathLst>
          </a:custGeom>
          <a:noFill/>
          <a:ln w="255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452000" y="162864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78280" y="119700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4360" y="3789360"/>
            <a:ext cx="10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female ad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06400" y="278136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800" spc="-1" strike="noStrike">
                <a:solidFill>
                  <a:srgbClr val="ffffff"/>
                </a:solidFill>
                <a:latin typeface="Arial"/>
              </a:rPr>
              <a:t>2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02880" y="3716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54320" y="16160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000" spc="-1" strike="noStrike">
                <a:solidFill>
                  <a:srgbClr val="000000"/>
                </a:solidFill>
                <a:latin typeface="Arial"/>
              </a:rPr>
              <a:t>2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86080" y="50976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000" spc="-1" strike="noStrike">
                <a:solidFill>
                  <a:srgbClr val="000000"/>
                </a:solidFill>
                <a:latin typeface="Arial"/>
              </a:rPr>
              <a:t>2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81040" y="46274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000" spc="-1" strike="noStrike">
                <a:solidFill>
                  <a:srgbClr val="000000"/>
                </a:solidFill>
                <a:latin typeface="Arial"/>
              </a:rPr>
              <a:t>2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500120" y="33577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000" spc="-1" strike="noStrike">
                <a:solidFill>
                  <a:srgbClr val="000000"/>
                </a:solidFill>
                <a:latin typeface="Arial"/>
              </a:rPr>
              <a:t>2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19938000">
            <a:off x="3996000" y="335736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c0c0c0"/>
                </a:solidFill>
                <a:latin typeface="Arial"/>
              </a:rPr>
              <a:t>Meiosis and cytokin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36240" y="4221000"/>
            <a:ext cx="19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male germ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843560" y="5500800"/>
            <a:ext cx="21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female germ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8648600">
            <a:off x="1135440" y="1748880"/>
            <a:ext cx="17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c0c0c0"/>
                </a:solidFill>
                <a:latin typeface="Arial"/>
              </a:rPr>
              <a:t>Mitosis and cytokin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602400" y="31748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26520" y="40514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666040" y="37670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666040" y="40892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666040" y="44118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662800" y="47354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666040" y="51195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678640" y="5445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666040" y="57722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653080" y="6093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00720" y="10875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c0c0c0"/>
                </a:solidFill>
                <a:latin typeface="Arial"/>
              </a:rPr>
              <a:t>Ferti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670800" y="17002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746680" y="18781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5120400">
            <a:off x="7228080" y="2969280"/>
            <a:ext cx="210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c0c0c0"/>
                </a:solidFill>
                <a:latin typeface="Arial"/>
              </a:rPr>
              <a:t>Differen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95640" y="27082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new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-1204200" y="33732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c0c0c0"/>
                </a:solidFill>
                <a:latin typeface="Arial"/>
              </a:rPr>
              <a:t>Growth and maint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280" y="124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Asexual Reproduc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15640" y="995400"/>
            <a:ext cx="792180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oduction i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meiosis, gamete formation and fertiliz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offspring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cal (genetic clone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each other and to the single pa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332000" y="3141720"/>
            <a:ext cx="7272360" cy="718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wha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 you think the cells of the offspring are produc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366920" y="4019400"/>
            <a:ext cx="7237440" cy="849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rt from growth and maintenanc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to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so functions in asexual 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5227560"/>
            <a:ext cx="8893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ate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cellular eukaryo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tista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Why?) Common in plants and fungi, and rare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213840" y="958680"/>
            <a:ext cx="4429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exual reproduction (clon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th, repa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urs in somatic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es genetically identical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nuclear di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romosome number mainta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diploid daughter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hase – homologous pairs do not inte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aphase – chromosomes al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phase – separates sister chromat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itos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Vs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52640" y="1212840"/>
            <a:ext cx="403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urs in germ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es genetically variable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nuclear divi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romosome number halved (reduction divis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haploid daughter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hase I – crossing over occ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aphase I – homologous pairs align for random asso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phase I – separates homologous pai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phase II – separates sister chromat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229600" cy="20163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r and Taggart: The Unity and Diversity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ell Division and Mito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apter 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io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5280" y="4005360"/>
            <a:ext cx="8229600" cy="6476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ctr"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.ukzn.ac.za/biology/BIOL101SmallerSideofLife256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492360" y="1270080"/>
            <a:ext cx="4033800" cy="3671640"/>
          </a:xfrm>
          <a:prstGeom prst="line">
            <a:avLst/>
          </a:prstGeom>
          <a:ln w="255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34520" y="3197160"/>
            <a:ext cx="263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4 haploid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46720" y="132876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78640" y="1168560"/>
            <a:ext cx="13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46680" y="377820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Ad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901880"/>
            <a:ext cx="40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800" spc="-1" strike="noStrike">
                <a:solidFill>
                  <a:srgbClr val="969696"/>
                </a:solidFill>
                <a:latin typeface="Arial"/>
              </a:rPr>
              <a:t>Gametes and Fer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3738000">
            <a:off x="3979440" y="1603080"/>
            <a:ext cx="2879640" cy="2879640"/>
          </a:xfrm>
          <a:custGeom>
            <a:avLst/>
            <a:gdLst>
              <a:gd name="textAreaLeft" fmla="*/ 0 w 2879640"/>
              <a:gd name="textAreaRight" fmla="*/ 2880000 w 2879640"/>
              <a:gd name="textAreaTop" fmla="*/ 0 h 2879640"/>
              <a:gd name="textAreaBottom" fmla="*/ 2880000 h 2879640"/>
            </a:gdLst>
            <a:ahLst/>
            <a:rect l="textAreaLeft" t="textAreaTop" r="textAreaRight" b="textAreaBottom"/>
            <a:pathLst>
              <a:path w="21600" h="21600">
                <a:moveTo>
                  <a:pt x="14306" y="5960"/>
                </a:moveTo>
                <a:arcTo wR="-5976" hR="-5976" stAng="-3244871" swAng="-18355129"/>
                <a:lnTo>
                  <a:pt x="0" y="10800"/>
                </a:lnTo>
                <a:arcTo wR="10800" hR="10800" stAng="10800000" swAng="18355129"/>
                <a:lnTo>
                  <a:pt x="2880" y="21733"/>
                </a:lnTo>
                <a:lnTo>
                  <a:pt x="1739" y="14594"/>
                </a:lnTo>
                <a:lnTo>
                  <a:pt x="8878" y="1345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32720" y="1041480"/>
            <a:ext cx="2232000" cy="13737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800" spc="-1" strike="noStrike">
                <a:solidFill>
                  <a:srgbClr val="969696"/>
                </a:solidFill>
                <a:latin typeface="Arial"/>
              </a:rPr>
              <a:t>Interphase, </a:t>
            </a:r>
            <a:r>
              <a:rPr b="1" i="1" lang="en-ZA" sz="2800" spc="-1" strike="noStrike">
                <a:solidFill>
                  <a:srgbClr val="000000"/>
                </a:solidFill>
                <a:latin typeface="Arial"/>
              </a:rPr>
              <a:t>Mitosis</a:t>
            </a:r>
            <a:r>
              <a:rPr b="1" i="1" lang="en-ZA" sz="2800" spc="-1" strike="noStrike">
                <a:solidFill>
                  <a:srgbClr val="969696"/>
                </a:solidFill>
                <a:latin typeface="Arial"/>
              </a:rPr>
              <a:t> and Cytoki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sic sexual life cycle revi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38720" y="4570560"/>
            <a:ext cx="2232000" cy="9471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800" spc="-1" strike="noStrike">
                <a:solidFill>
                  <a:srgbClr val="000000"/>
                </a:solidFill>
                <a:latin typeface="Arial"/>
              </a:rPr>
              <a:t>Meiosis</a:t>
            </a:r>
            <a:r>
              <a:rPr b="1" i="1" lang="en-ZA" sz="2800" spc="-1" strike="noStrike">
                <a:solidFill>
                  <a:srgbClr val="969696"/>
                </a:solidFill>
                <a:latin typeface="Arial"/>
              </a:rPr>
              <a:t> and Cytoki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176880" y="5067360"/>
            <a:ext cx="1728720" cy="1457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206400" y="278136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800" spc="-1" strike="noStrike">
                <a:solidFill>
                  <a:srgbClr val="ffffff"/>
                </a:solidFill>
                <a:latin typeface="Arial"/>
              </a:rPr>
              <a:t>2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02880" y="3716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31840" y="1211400"/>
            <a:ext cx="10494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1200" spc="-1" strike="noStrike">
                <a:solidFill>
                  <a:srgbClr val="ff6600"/>
                </a:solidFill>
                <a:latin typeface="Arial"/>
              </a:rPr>
              <a:t>?</a:t>
            </a: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21360" y="2852640"/>
            <a:ext cx="100800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16320" y="3814920"/>
            <a:ext cx="100800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rcRect l="0" t="0" r="0" b="50637"/>
          <a:stretch/>
        </p:blipFill>
        <p:spPr>
          <a:xfrm rot="2415600">
            <a:off x="1763280" y="3573360"/>
            <a:ext cx="1181160" cy="2160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rcRect l="0" t="50998" r="0" b="0"/>
          <a:stretch/>
        </p:blipFill>
        <p:spPr>
          <a:xfrm rot="2415600">
            <a:off x="2120760" y="4316400"/>
            <a:ext cx="118116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71640" y="1196640"/>
            <a:ext cx="79214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Recall that meiosis and cytokinesis result 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1" lang="en-ZA" sz="2000" spc="-1" strike="noStrike">
                <a:solidFill>
                  <a:srgbClr val="c0c0c0"/>
                </a:solidFill>
                <a:latin typeface="Arial"/>
              </a:rPr>
              <a:t>4 genetically variable, haploid cells </a:t>
            </a:r>
            <a:r>
              <a:rPr b="0" lang="en-ZA" sz="2000" spc="-1" strike="noStrike">
                <a:solidFill>
                  <a:srgbClr val="c0c0c0"/>
                </a:solidFill>
                <a:latin typeface="Arial"/>
              </a:rPr>
              <a:t>being </a:t>
            </a:r>
            <a:r>
              <a:rPr b="0" lang="en-ZA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ZA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ZA" sz="2000" spc="-1" strike="noStrike">
                <a:solidFill>
                  <a:srgbClr val="c0c0c0"/>
                </a:solidFill>
                <a:latin typeface="Arial"/>
              </a:rPr>
              <a:t>produced from</a:t>
            </a:r>
            <a:r>
              <a:rPr b="1" lang="en-ZA" sz="2000" spc="-1" strike="noStrike">
                <a:solidFill>
                  <a:srgbClr val="c0c0c0"/>
                </a:solidFill>
                <a:latin typeface="Arial"/>
              </a:rPr>
              <a:t> 1 diploid germ </a:t>
            </a:r>
            <a:r>
              <a:rPr b="0" lang="en-ZA" sz="2000" spc="-1" strike="noStrike">
                <a:solidFill>
                  <a:srgbClr val="c0c0c0"/>
                </a:solidFill>
                <a:latin typeface="Arial"/>
              </a:rPr>
              <a:t>(reproductive)</a:t>
            </a:r>
            <a:r>
              <a:rPr b="1" lang="en-ZA" sz="2000" spc="-1" strike="noStrike">
                <a:solidFill>
                  <a:srgbClr val="c0c0c0"/>
                </a:solidFill>
                <a:latin typeface="Arial"/>
              </a:rPr>
              <a:t> c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iat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ploid cell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me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call: differentiation is a change in structure for a particular func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ll haploid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cells will mature (differentiate) to form game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tion in gamete matur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genders of a species (male &amp; fema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perm – flagella for motility, +++ mitochondria for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gg – increased volume for biochemical support (e.g. nutrien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179280" y="124920"/>
            <a:ext cx="89647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What is the fate of a haploid cell?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118116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38240" y="476280"/>
            <a:ext cx="9005760" cy="56894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28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rmatoge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9720" y="4716360"/>
            <a:ext cx="8038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80880" y="4653000"/>
            <a:ext cx="198360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iosis 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ytoplasmic Di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4653000"/>
            <a:ext cx="197640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iosis I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ytoplasmic Di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64280" y="5361120"/>
            <a:ext cx="23842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fferent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51720" y="473040"/>
            <a:ext cx="1261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rmat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hapl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44800" y="490680"/>
            <a:ext cx="1843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ary spermatocytes (hapl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76360" y="1125360"/>
            <a:ext cx="1712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mary spermatocyte (dipl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125360"/>
            <a:ext cx="13208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rmato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niu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iploi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07280" y="5877000"/>
            <a:ext cx="2736720" cy="5511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rm (mature, haploid male game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48480" y="568152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77920" y="5589720"/>
            <a:ext cx="2492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iosis 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toplasmic Di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79840" y="5589720"/>
            <a:ext cx="2492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iosis I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toplasmic Di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40360" y="4865760"/>
            <a:ext cx="1362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um (haplo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68360" y="3887640"/>
            <a:ext cx="2130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y oocyte (diplo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8000" y="3430440"/>
            <a:ext cx="1479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ogonium (diplo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64160" y="4595760"/>
            <a:ext cx="1563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ary oocyte (haplo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3280" y="549360"/>
            <a:ext cx="1687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polar body (haplo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Ooge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77080" y="4010040"/>
            <a:ext cx="1582560" cy="2970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different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7524720" y="620640"/>
            <a:ext cx="1150920" cy="3313080"/>
            <a:chOff x="7524720" y="620640"/>
            <a:chExt cx="1150920" cy="3313080"/>
          </a:xfrm>
        </p:grpSpPr>
        <p:sp>
          <p:nvSpPr>
            <p:cNvPr id="170" name=""/>
            <p:cNvSpPr/>
            <p:nvPr/>
          </p:nvSpPr>
          <p:spPr>
            <a:xfrm>
              <a:off x="7524720" y="692280"/>
              <a:ext cx="1150920" cy="324144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7812000" y="620640"/>
              <a:ext cx="432000" cy="31687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773760" y="166680"/>
            <a:ext cx="1508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polar bodies (haplo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124920"/>
            <a:ext cx="89647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What is the fate of a haploid cell?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1960" y="11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Recall that meiosis and cytokinesis result 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1" lang="en-ZA" sz="2000" spc="-1" strike="noStrike">
                <a:solidFill>
                  <a:srgbClr val="c0c0c0"/>
                </a:solidFill>
                <a:latin typeface="Arial"/>
              </a:rPr>
              <a:t>4 genetically variable, haploid cells </a:t>
            </a:r>
            <a:r>
              <a:rPr b="0" lang="en-ZA" sz="2000" spc="-1" strike="noStrike">
                <a:solidFill>
                  <a:srgbClr val="c0c0c0"/>
                </a:solidFill>
                <a:latin typeface="Arial"/>
              </a:rPr>
              <a:t>being </a:t>
            </a:r>
            <a:r>
              <a:rPr b="0" lang="en-ZA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ZA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ZA" sz="2000" spc="-1" strike="noStrike">
                <a:solidFill>
                  <a:srgbClr val="c0c0c0"/>
                </a:solidFill>
                <a:latin typeface="Arial"/>
              </a:rPr>
              <a:t>produced from</a:t>
            </a:r>
            <a:r>
              <a:rPr b="1" lang="en-ZA" sz="2000" spc="-1" strike="noStrike">
                <a:solidFill>
                  <a:srgbClr val="c0c0c0"/>
                </a:solidFill>
                <a:latin typeface="Arial"/>
              </a:rPr>
              <a:t> 1 diploid germ </a:t>
            </a:r>
            <a:r>
              <a:rPr b="0" lang="en-ZA" sz="2000" spc="-1" strike="noStrike">
                <a:solidFill>
                  <a:srgbClr val="c0c0c0"/>
                </a:solidFill>
                <a:latin typeface="Arial"/>
              </a:rPr>
              <a:t>(reproductive)</a:t>
            </a:r>
            <a:r>
              <a:rPr b="1" lang="en-ZA" sz="2000" spc="-1" strike="noStrike">
                <a:solidFill>
                  <a:srgbClr val="c0c0c0"/>
                </a:solidFill>
                <a:latin typeface="Arial"/>
              </a:rPr>
              <a:t> c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0c0c0"/>
                </a:solidFill>
                <a:latin typeface="Arial"/>
              </a:rPr>
              <a:t>Differentiated 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haploid cell = </a:t>
            </a:r>
            <a:r>
              <a:rPr b="1" lang="en-US" sz="2000" spc="-1" strike="noStrike">
                <a:solidFill>
                  <a:srgbClr val="c0c0c0"/>
                </a:solidFill>
                <a:latin typeface="Arial"/>
              </a:rPr>
              <a:t>Gamete 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(recall: differentiation is a change in structure for a particular func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Not all haploid (</a:t>
            </a:r>
            <a:r>
              <a:rPr b="0" i="1" lang="en-US" sz="2000" spc="-1" strike="noStrike">
                <a:solidFill>
                  <a:srgbClr val="c0c0c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) cells will mature (differentiate) 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form game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tion in gamete matur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499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between genders of a species (male &amp; fema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spec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118116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843280" y="371628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50920" y="3645000"/>
            <a:ext cx="2017440" cy="16905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796000" y="3429000"/>
            <a:ext cx="1960560" cy="19605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7020000" y="2421000"/>
            <a:ext cx="2124000" cy="1593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7020000" y="0"/>
            <a:ext cx="2124000" cy="15019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684360" y="163440"/>
            <a:ext cx="4103640" cy="32464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6012000" y="907920"/>
            <a:ext cx="2306520" cy="15908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6084720" y="5199120"/>
            <a:ext cx="3059280" cy="1658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0" y="5013360"/>
            <a:ext cx="1521000" cy="18446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0"/>
          <a:stretch/>
        </p:blipFill>
        <p:spPr>
          <a:xfrm>
            <a:off x="1619280" y="5452920"/>
            <a:ext cx="1871640" cy="14050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1"/>
          <a:stretch/>
        </p:blipFill>
        <p:spPr>
          <a:xfrm>
            <a:off x="1908000" y="4473720"/>
            <a:ext cx="1800360" cy="1350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2"/>
          <a:stretch/>
        </p:blipFill>
        <p:spPr>
          <a:xfrm>
            <a:off x="3419640" y="5424480"/>
            <a:ext cx="143352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9280" y="125280"/>
            <a:ext cx="896472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What is the fate of a haploid cell?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7632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Recall that meiosis and cytokinesis result 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1" lang="en-ZA" sz="2000" spc="-1" strike="noStrike">
                <a:solidFill>
                  <a:srgbClr val="c0c0c0"/>
                </a:solidFill>
                <a:latin typeface="Arial"/>
              </a:rPr>
              <a:t>4 genetically variable, haploid cells </a:t>
            </a:r>
            <a:r>
              <a:rPr b="0" lang="en-ZA" sz="2000" spc="-1" strike="noStrike">
                <a:solidFill>
                  <a:srgbClr val="c0c0c0"/>
                </a:solidFill>
                <a:latin typeface="Arial"/>
              </a:rPr>
              <a:t>being </a:t>
            </a:r>
            <a:r>
              <a:rPr b="0" lang="en-ZA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ZA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ZA" sz="2000" spc="-1" strike="noStrike">
                <a:solidFill>
                  <a:srgbClr val="c0c0c0"/>
                </a:solidFill>
                <a:latin typeface="Arial"/>
              </a:rPr>
              <a:t>produced from</a:t>
            </a:r>
            <a:r>
              <a:rPr b="1" lang="en-ZA" sz="2000" spc="-1" strike="noStrike">
                <a:solidFill>
                  <a:srgbClr val="c0c0c0"/>
                </a:solidFill>
                <a:latin typeface="Arial"/>
              </a:rPr>
              <a:t> 1 diploid germ </a:t>
            </a:r>
            <a:r>
              <a:rPr b="0" lang="en-ZA" sz="2000" spc="-1" strike="noStrike">
                <a:solidFill>
                  <a:srgbClr val="c0c0c0"/>
                </a:solidFill>
                <a:latin typeface="Arial"/>
              </a:rPr>
              <a:t>(reproductive)</a:t>
            </a:r>
            <a:r>
              <a:rPr b="1" lang="en-ZA" sz="2000" spc="-1" strike="noStrike">
                <a:solidFill>
                  <a:srgbClr val="c0c0c0"/>
                </a:solidFill>
                <a:latin typeface="Arial"/>
              </a:rPr>
              <a:t> c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0c0c0"/>
                </a:solidFill>
                <a:latin typeface="Arial"/>
              </a:rPr>
              <a:t>Differentiated 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haploid cell = </a:t>
            </a:r>
            <a:r>
              <a:rPr b="1" lang="en-US" sz="2000" spc="-1" strike="noStrike">
                <a:solidFill>
                  <a:srgbClr val="c0c0c0"/>
                </a:solidFill>
                <a:latin typeface="Arial"/>
              </a:rPr>
              <a:t>Gamete 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(recall: differentiation is a change in structure for a particular func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Not all haploid (</a:t>
            </a:r>
            <a:r>
              <a:rPr b="0" i="1" lang="en-US" sz="2000" spc="-1" strike="noStrike">
                <a:solidFill>
                  <a:srgbClr val="c0c0c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) cells will mature (differentiate) 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form game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tion in matur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lnSpc>
                <a:spcPct val="80000"/>
              </a:lnSpc>
              <a:spcBef>
                <a:spcPts val="499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between genders of a species (male &amp; fema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lnSpc>
                <a:spcPct val="80000"/>
              </a:lnSpc>
              <a:spcBef>
                <a:spcPts val="499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between spec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plants and anim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118116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2746440"/>
            <a:ext cx="2050920" cy="14047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0" y="63000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imal Sexual Life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61120" cy="33577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501920" y="600120"/>
            <a:ext cx="16300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76360" y="2997360"/>
            <a:ext cx="18082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3440" y="94284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57480" y="447372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i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73440" y="447372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erti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8840" y="428760"/>
            <a:ext cx="88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mit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82880" y="162864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Diplo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77480" y="19162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Haplo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88920" y="177156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i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42480" y="176040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erti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043000" y="3357720"/>
            <a:ext cx="187164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gg (ovum) and spe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24000" y="1413000"/>
            <a:ext cx="6912000" cy="453708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219240" y="1628640"/>
            <a:ext cx="1598760" cy="648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0" y="2448000"/>
            <a:ext cx="9144000" cy="4421880"/>
            <a:chOff x="0" y="2448000"/>
            <a:chExt cx="9144000" cy="4421880"/>
          </a:xfrm>
        </p:grpSpPr>
        <p:pic>
          <p:nvPicPr>
            <p:cNvPr id="208" name="" descr=""/>
            <p:cNvPicPr/>
            <p:nvPr/>
          </p:nvPicPr>
          <p:blipFill>
            <a:blip r:embed="rId3"/>
            <a:stretch/>
          </p:blipFill>
          <p:spPr>
            <a:xfrm>
              <a:off x="3276720" y="2448000"/>
              <a:ext cx="5867280" cy="42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4948200" y="3606840"/>
              <a:ext cx="163044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ul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32240" y="5722920"/>
              <a:ext cx="18079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ame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60000" y="4017960"/>
              <a:ext cx="82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zygo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96160" y="3516480"/>
              <a:ext cx="88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mitos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380200" y="4754520"/>
              <a:ext cx="8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Diplo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74800" y="5041800"/>
              <a:ext cx="92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Haplo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38880" y="489744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eios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91120" y="4911840"/>
              <a:ext cx="126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ertil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20990400">
              <a:off x="4936680" y="5746680"/>
              <a:ext cx="3021120" cy="8636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20849400">
              <a:off x="5580000" y="6048360"/>
              <a:ext cx="163044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IOL 10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5905440"/>
              <a:ext cx="414036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lant Sexual Life Cyc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58920" y="5832360"/>
              <a:ext cx="23050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vules and poll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17960" y="4753080"/>
              <a:ext cx="1598400" cy="647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1979640" y="4746600"/>
            <a:ext cx="1114560" cy="10699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968400" y="4746600"/>
            <a:ext cx="10112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5:29:47Z</dcterms:created>
  <dc:creator>Dave Thompson</dc:creator>
  <dc:description/>
  <dc:language>en-US</dc:language>
  <cp:lastModifiedBy>Sharon</cp:lastModifiedBy>
  <dcterms:modified xsi:type="dcterms:W3CDTF">2006-05-03T21:00:17Z</dcterms:modified>
  <cp:revision>68</cp:revision>
  <dc:subject/>
  <dc:title>Role of Mitosis</dc:title>
</cp:coreProperties>
</file>